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CEF-9573-4210-9FA7-5A156C15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CA38-10A9-45DC-A69D-F53F5FA2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D94-5767-4461-9743-57DCCF6C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4A65-F104-4ABC-94A9-D47AF842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F4F1-537A-4E7D-B938-507879A8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2EED-6F6E-40AC-A730-51B76C16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24AB-EA20-47D7-86A8-ACBACADA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9EBB-B946-41DB-B599-B60456B3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80F3-5D97-4B87-A9A2-0E5B7D2C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956A-D7B2-47F6-8BCD-B9B26842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ECE7-F855-4B29-A8EA-C03FA448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CDC5-D82D-4CBC-9BFF-D54EDF7F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899E-03BA-4D62-AB2E-4CAA8321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2C2A-3D77-49D2-906D-2A70BC95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5814-7D99-4EB9-BA5C-6B4753AD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94A3-B519-490A-A198-38BC5758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A1FE-351B-4EC3-847B-19DD8331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A347-2492-4433-8792-EC5484DD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859F-BB9E-46A5-9A8F-D3C824E7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102C-B926-4CD0-AC5F-8E04B121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BAE8-9DD7-4068-8242-89529C94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9DC-64C0-4708-9DD3-3886F7A2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360-DB0A-4819-BE07-33F0729B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CDAD-6D1B-43E0-B8CE-1EC229C8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2E0C-0095-41C0-A43F-EBED93DC40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D33E-E44F-4A92-B8E0-ED1E25874F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3b2c1"/>
                </a:solidFill>
                <a:latin typeface="Verdana"/>
              </a:rPr>
              <a:t>Me llamo _________ Clase 6 NH(602)</a:t>
            </a:r>
            <a:br>
              <a:rPr sz="3400"/>
            </a:br>
            <a:r>
              <a:rPr b="0" lang="en-US" sz="3400" spc="-1" strike="noStrike">
                <a:solidFill>
                  <a:srgbClr val="a3b2c1"/>
                </a:solidFill>
                <a:latin typeface="Verdana"/>
              </a:rPr>
              <a:t>La fecha es el 21 de noviembre del 2012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348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c0000"/>
                </a:solidFill>
                <a:latin typeface="Verdana"/>
              </a:rPr>
              <a:t>Propósito # 19: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¿Cómo es tu familia y tu cas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c0000"/>
                </a:solidFill>
                <a:latin typeface="Verdana"/>
              </a:rPr>
              <a:t>Actividad Inicial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pia y complet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 hermano de mi padre es mi _________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hija de mis tíos es mi __________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Yo soy _________ de los padres de mis padr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os padres de mis padres son mis ________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cc0000"/>
                </a:solidFill>
                <a:latin typeface="Verdana"/>
              </a:rPr>
              <a:t>Más vocabul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gatito(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kit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Perrito(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Puppy</a:t>
            </a:r>
            <a:r>
              <a:rPr b="0" lang="en-US" sz="3000" spc="-1" strike="noStrike">
                <a:solidFill>
                  <a:srgbClr val="a3b2c1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único(a)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On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Meno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young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May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leta la hoja distribui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419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cc0000"/>
                </a:solidFill>
                <a:latin typeface="Verdana"/>
              </a:rPr>
              <a:t>Tarea #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Repaso de vocabulario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38240" y="1676520"/>
            <a:ext cx="4052880" cy="5105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91120" y="182880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6699"/>
                </a:solidFill>
                <a:latin typeface="Verdana"/>
              </a:rPr>
              <a:t>La Famil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1812960"/>
            <a:ext cx="167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-Fam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3080" y="2575080"/>
            <a:ext cx="4473720" cy="26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Los Parientes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El miembro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86600" y="2514600"/>
            <a:ext cx="205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94668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e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La famili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2581200" cy="1771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715000" y="1371600"/>
            <a:ext cx="259092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80880" y="441972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486400" y="4343400"/>
            <a:ext cx="2311560" cy="1857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8600" y="32767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a m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581280"/>
            <a:ext cx="2286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33cc"/>
                </a:solidFill>
                <a:latin typeface="Verdana"/>
              </a:rPr>
              <a:t>(la mamá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32907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3733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19880" y="3200400"/>
            <a:ext cx="17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El p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36576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33cc"/>
                </a:solidFill>
                <a:latin typeface="Verdana"/>
              </a:rPr>
              <a:t>(el papá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0240" y="327672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3671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- 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3000" spc="-1" strike="noStrike">
                <a:solidFill>
                  <a:srgbClr val="0033cc"/>
                </a:solidFill>
                <a:latin typeface="Verdana"/>
              </a:rPr>
              <a:t>el hij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6324480"/>
            <a:ext cx="1447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571500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erm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62485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u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43434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ermano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4824360"/>
            <a:ext cx="16765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brother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62024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a h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2011320"/>
            <a:ext cx="2438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os pa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2452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62485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b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867280" y="2859120"/>
            <a:ext cx="2667240" cy="26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029200" y="71748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37240" y="1174680"/>
            <a:ext cx="16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020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Hermanastro</a:t>
            </a:r>
            <a:r>
              <a:rPr b="0" lang="es-ES_tradnl" sz="2400" spc="-1" strike="noStrike">
                <a:solidFill>
                  <a:srgbClr val="0033cc"/>
                </a:solidFill>
                <a:latin typeface="Tahoma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752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tepbrother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55627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Gemelos/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w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867280" y="533520"/>
            <a:ext cx="2590920" cy="2074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57200" y="2205000"/>
            <a:ext cx="33195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080" y="824040"/>
            <a:ext cx="2362320" cy="3367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191120" y="533520"/>
            <a:ext cx="3276360" cy="2403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066680" y="4221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madra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83880" y="473868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tep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29718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ermanastra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62440" y="342900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tepsister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28804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padra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10160" y="580536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tep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886200" y="4172040"/>
            <a:ext cx="1752480" cy="260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791320" y="4572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ija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74040" y="5105520"/>
            <a:ext cx="24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tepdau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5668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ija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89520" y="6110280"/>
            <a:ext cx="15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tep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s-MX" sz="2500" spc="-1" strike="noStrike">
                <a:solidFill>
                  <a:srgbClr val="0033cc"/>
                </a:solidFill>
                <a:latin typeface="Verdana"/>
              </a:rPr>
              <a:t>la tía</a:t>
            </a:r>
            <a:r>
              <a:rPr b="0" lang="es-MX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838080"/>
            <a:ext cx="22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29718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a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61080" y="1022400"/>
            <a:ext cx="260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2438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el t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0920" y="289548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un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04080" y="304812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os 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46480" y="3505320"/>
            <a:ext cx="161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aunts &amp; un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320040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el pr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3733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usin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(bo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2286000" cy="2100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352680" y="4572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477120" y="990720"/>
            <a:ext cx="2286000" cy="21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733800" y="4343400"/>
            <a:ext cx="17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a p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49528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usin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(gi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47320" y="5516640"/>
            <a:ext cx="21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os pri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60339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us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52280" y="4343400"/>
            <a:ext cx="1905120" cy="2400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057400" y="46483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el sobr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36320" y="5119560"/>
            <a:ext cx="1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neph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55926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a sob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56120" y="5958000"/>
            <a:ext cx="10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ni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91520" y="498312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os sobr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5378400"/>
            <a:ext cx="167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ieces &amp; neph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560" y="628560"/>
            <a:ext cx="1882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Verdana"/>
              </a:rPr>
              <a:t>abue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2651040" y="870120"/>
            <a:ext cx="1768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762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grand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52920" y="77616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abuel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04240" y="76212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grandm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6019920" cy="4025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09680" y="129528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029200" y="12952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5638680"/>
            <a:ext cx="1981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Verdana"/>
              </a:rPr>
              <a:t>Ni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7150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grand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715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Verdana"/>
              </a:rPr>
              <a:t>Niet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5715000"/>
            <a:ext cx="3581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Granddaughter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752480" y="4495680"/>
            <a:ext cx="13716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4952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624852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Verdana"/>
              </a:rPr>
              <a:t>Ni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624852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grandchildr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65520" y="152280"/>
            <a:ext cx="1882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Verdana"/>
              </a:rPr>
              <a:t>abu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2430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grand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057400" y="46483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a esp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4678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El esp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78320" y="51195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w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94920" y="510552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hus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56386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os espo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97520" y="6172200"/>
            <a:ext cx="27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husband &amp; w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643040" y="676440"/>
            <a:ext cx="58579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09320" y="609120"/>
            <a:ext cx="291492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Verdana"/>
              </a:rPr>
              <a:t>mascota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514600" y="1676520"/>
            <a:ext cx="4114800" cy="4572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876920" y="762120"/>
            <a:ext cx="199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609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et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080" y="1932120"/>
            <a:ext cx="109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G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51920" y="2541600"/>
            <a:ext cx="7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43160" y="2922480"/>
            <a:ext cx="12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pe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813080" y="368460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80720" y="2286000"/>
            <a:ext cx="762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53080" y="243828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629400" y="43434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00:06:43Z</dcterms:created>
  <dc:creator>Helen Zumaeta</dc:creator>
  <dc:description/>
  <dc:language>en-US</dc:language>
  <cp:lastModifiedBy>Helen Zumaeta</cp:lastModifiedBy>
  <dcterms:modified xsi:type="dcterms:W3CDTF">2012-11-21T20:54:16Z</dcterms:modified>
  <cp:revision>7</cp:revision>
  <dc:subject/>
  <dc:title>Me llamo _________ Clase 6 NH La fecha es el 14 de marzo del 2012</dc:title>
</cp:coreProperties>
</file>